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0567-058B-4E75-8160-0F95B1A4F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B099-D883-4088-AFE2-84EA7A09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B305-0044-4180-A92B-E3D4D11BA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710A-55B9-474A-8FBA-0E38C6538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95F3-1A36-4729-9589-281DAAEE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2536-4534-4CAC-8728-67B844E9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3FFA-A65A-4A8D-90BC-47745E55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3954-9332-4171-8FA0-F56B289F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34AC-5EA5-43BF-B66F-0DE72252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C154-862A-4F8C-9FD4-928F74ED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59D7-AE0B-4CCA-BB8C-DD79A411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0D00-E257-46F1-8381-2C304E61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A4CE-E35E-4CDF-91CA-7623ADB07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 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Clase 7 il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5 de octubre del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14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deportes juegan en la escue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Copia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 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deportes son populares en Estados Unid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les de los deportes te gust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les no te gust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 partido de futb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0, en voz al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¿Comprende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0 (1-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382920"/>
            <a:ext cx="8229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area #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8:26:59Z</dcterms:created>
  <dc:creator>Helen Zumaeta</dc:creator>
  <dc:description/>
  <dc:language>en-US</dc:language>
  <cp:lastModifiedBy>Helen Zumaeta</cp:lastModifiedBy>
  <dcterms:modified xsi:type="dcterms:W3CDTF">2012-10-15T05:00:20Z</dcterms:modified>
  <cp:revision>9</cp:revision>
  <dc:subject/>
  <dc:title>Me llamo ______   Clase 7 Im La fecha es el 3 de febrero del 2011</dc:title>
</cp:coreProperties>
</file>